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beimen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 blut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6040" y="549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t blut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3"/>
            <a:endCxn id="16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7" name=""/>
          <p:cNvCxnSpPr>
            <a:stCxn id="164" idx="3"/>
            <a:endCxn id="16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3"/>
            <a:endCxn id="17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8" idx="3"/>
            <a:endCxn id="17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14560" y="549360"/>
            <a:ext cx="75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questr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7" idx="3"/>
            <a:endCxn id="19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3"/>
            <a:endCxn id="19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4200" y="54936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4200" y="54936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7" idx="3"/>
            <a:endCxn id="19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2" name=""/>
          <p:cNvCxnSpPr>
            <a:endCxn id="20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14200" y="54936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9" name=""/>
          <p:cNvCxnSpPr>
            <a:endCxn id="2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14200" y="549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1" idx="3"/>
            <a:endCxn id="21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14200" y="549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6" idx="3"/>
            <a:endCxn id="21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we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79920" y="54936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 blut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ung in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4200" y="549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3"/>
            <a:endCxn id="22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7" idx="3"/>
            <a:endCxn id="22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0" name=""/>
          <p:cNvCxnSpPr>
            <a:stCxn id="227" idx="3"/>
            <a:endCxn id="23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2" name=""/>
          <p:cNvCxnSpPr>
            <a:stCxn id="227" idx="3"/>
            <a:endCxn id="233" idx="1"/>
          </p:cNvCxnSpPr>
          <p:nvPr/>
        </p:nvCxnSpPr>
        <p:spPr>
          <a:xfrm flipV="1">
            <a:off x="3313080" y="2057040"/>
            <a:ext cx="2689920" cy="20246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4" name=""/>
          <p:cNvCxnSpPr>
            <a:stCxn id="227" idx="3"/>
            <a:endCxn id="235" idx="1"/>
          </p:cNvCxnSpPr>
          <p:nvPr/>
        </p:nvCxnSpPr>
        <p:spPr>
          <a:xfrm>
            <a:off x="3313080" y="4080960"/>
            <a:ext cx="2689920" cy="20264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6012000" y="1494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e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äsionensetz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10240" y="549360"/>
            <a:ext cx="74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were 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lc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43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mdkörp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beimen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icht-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2" name=""/>
          <p:cNvCxnSpPr>
            <a:stCxn id="238" idx="3"/>
            <a:endCxn id="23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1038240" y="54936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t blut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 mit Blutbeimen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89000" y="5493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fall mit Blutbeimeng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3"/>
            <a:endCxn id="24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rvov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au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almonell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lostridien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iardien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okkzid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urmbe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-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0" idx="3"/>
            <a:endCxn id="25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832680" y="549360"/>
            <a:ext cx="66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 blutig &gt; Durchfall mit Blutbeimengung &gt; nicht-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adäqu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an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adäqu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an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1960" y="54936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 blutig &gt; Durchfall mit Blutbeimengung &gt; nicht-infektiös &gt; 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n inadäquaten Substan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5" idx="3"/>
            <a:endCxn id="2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dorbenes Futt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63440" y="549360"/>
            <a:ext cx="61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3"/>
            <a:endCxn id="121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9" idx="3"/>
            <a:endCxn id="12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3"/>
            <a:endCxn id="124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4" idx="3"/>
            <a:endCxn id="139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4" idx="3"/>
            <a:endCxn id="140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5" idx="3"/>
            <a:endCxn id="14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0" name=""/>
          <p:cNvCxnSpPr>
            <a:endCxn id="14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4560" y="549360"/>
            <a:ext cx="75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4560" y="549360"/>
            <a:ext cx="75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 bluti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den Dar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8" idx="3"/>
            <a:endCxn id="16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7:52:22Z</dcterms:modified>
  <cp:revision>337</cp:revision>
  <dc:subject/>
  <dc:title>Vorstellung einer Neuheit</dc:title>
</cp:coreProperties>
</file>